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39.png" ContentType="image/png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gif" ContentType="image/gif"/>
  <Override PartName="/ppt/media/image38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E9AD-EE24-479E-AC24-AFBDEC55A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4615-2A63-41B8-A700-3CABDD90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8E0E-9C1D-49D3-97B9-A9A29A60A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5C36-C7E8-4E18-A811-A9105B35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E57B-AF38-4E1A-AE5C-9619C836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2064-E1DE-4967-B06C-5930A78F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0173-5A8C-4277-8DFC-5260427A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281E-C4A5-4CE0-9DF8-4DD25E5B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2927-1A35-44C0-A3D8-28D6E903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1E91-ACDD-4A49-B3B1-2472E371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5799-3CBF-4B55-BE27-4E233205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F25D-691E-4EE0-BF96-94FC4CC3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54C6-3446-480A-B5E9-831FAE10F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travelel.ru/respubliki-rossii-karty-respublik-otdyx-turizm" TargetMode="External"/><Relationship Id="rId2" Type="http://schemas.openxmlformats.org/officeDocument/2006/relationships/hyperlink" Target="http://poisk-druga.ru/breeds/poroda-d/238-dalmatin.html" TargetMode="External"/><Relationship Id="rId3" Type="http://schemas.openxmlformats.org/officeDocument/2006/relationships/hyperlink" Target="http://photo-sever.ru/2/9/illyustratsii-narodi-kraynego-severa.html" TargetMode="External"/><Relationship Id="rId4" Type="http://schemas.openxmlformats.org/officeDocument/2006/relationships/hyperlink" Target="http://vorkutainfo.ru/jit_severa.php" TargetMode="External"/><Relationship Id="rId5" Type="http://schemas.openxmlformats.org/officeDocument/2006/relationships/hyperlink" Target="http://photo-sever.ru/2/9/kak-givut-narodi-severa.html" TargetMode="External"/><Relationship Id="rId6" Type="http://schemas.openxmlformats.org/officeDocument/2006/relationships/hyperlink" Target="http://akvis.com/ru/retoucher-tutorial/examples/gipsy.php" TargetMode="External"/><Relationship Id="rId7" Type="http://schemas.openxmlformats.org/officeDocument/2006/relationships/hyperlink" Target="http://ru.wikipedia.org/wiki/&#1050;&#1091;&#1083;&#1100;&#1090;&#1091;&#1088;&#1072;_&#1094;&#1099;&#1075;&#1072;&#1085;" TargetMode="External"/><Relationship Id="rId8" Type="http://schemas.openxmlformats.org/officeDocument/2006/relationships/hyperlink" Target="http://svenko.net/index.htm" TargetMode="External"/><Relationship Id="rId9" Type="http://schemas.openxmlformats.org/officeDocument/2006/relationships/hyperlink" Target="http://www.lechaim.ru/ARHIV/118/fede.htm" TargetMode="External"/><Relationship Id="rId10" Type="http://schemas.openxmlformats.org/officeDocument/2006/relationships/hyperlink" Target="http://ru.wikipedia.org/wiki/&#1041;&#1091;&#1093;&#1072;&#1088;&#1089;&#1082;&#1080;&#1077;_&#1077;&#1074;&#1088;&#1077;&#1080;" TargetMode="External"/><Relationship Id="rId11" Type="http://schemas.openxmlformats.org/officeDocument/2006/relationships/hyperlink" Target="http://poligonkavkaz.info/topic/6357-nacionalnie-kostjumi/" TargetMode="External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ravelel.ru/respublika-adygeya-na-karte-rossii" TargetMode="External"/><Relationship Id="rId2" Type="http://schemas.openxmlformats.org/officeDocument/2006/relationships/hyperlink" Target="http://travelel.ru/majkop-na-karte-rossii-s-ulicami" TargetMode="External"/><Relationship Id="rId3" Type="http://schemas.openxmlformats.org/officeDocument/2006/relationships/hyperlink" Target="http://travelel.ru/karta-respubliki-altaj" TargetMode="External"/><Relationship Id="rId4" Type="http://schemas.openxmlformats.org/officeDocument/2006/relationships/hyperlink" Target="http://travelel.ru/karta-gorno-altajska" TargetMode="External"/><Relationship Id="rId5" Type="http://schemas.openxmlformats.org/officeDocument/2006/relationships/hyperlink" Target="http://travelel.ru/podrobnaya-karta-respubliki-bashkortostan-so-sputnika" TargetMode="External"/><Relationship Id="rId6" Type="http://schemas.openxmlformats.org/officeDocument/2006/relationships/hyperlink" Target="http://travelel.ru/karty-ufy-s-ulicami-i-domami-so-sputnika" TargetMode="External"/><Relationship Id="rId7" Type="http://schemas.openxmlformats.org/officeDocument/2006/relationships/hyperlink" Target="http://travelel.ru/karta-buryatii-so-sputnika-administrativnaya-fizicheskaya" TargetMode="External"/><Relationship Id="rId8" Type="http://schemas.openxmlformats.org/officeDocument/2006/relationships/hyperlink" Target="http://travelel.ru/karta-ulan-ude-s-ulicami-i-nomerami-domov-2011" TargetMode="External"/><Relationship Id="rId9" Type="http://schemas.openxmlformats.org/officeDocument/2006/relationships/hyperlink" Target="http://travelel.ru/karta-dagestana" TargetMode="External"/><Relationship Id="rId10" Type="http://schemas.openxmlformats.org/officeDocument/2006/relationships/hyperlink" Target="http://travelel.ru/karta-maxachkaly" TargetMode="External"/><Relationship Id="rId11" Type="http://schemas.openxmlformats.org/officeDocument/2006/relationships/hyperlink" Target="http://travelel.ru/karta-ingushetii" TargetMode="External"/><Relationship Id="rId12" Type="http://schemas.openxmlformats.org/officeDocument/2006/relationships/hyperlink" Target="http://travelel.ru/karta-goroda-magas" TargetMode="External"/><Relationship Id="rId13" Type="http://schemas.openxmlformats.org/officeDocument/2006/relationships/hyperlink" Target="http://travelel.ru/kabardino-balkariya-dlya-turistov" TargetMode="External"/><Relationship Id="rId14" Type="http://schemas.openxmlformats.org/officeDocument/2006/relationships/hyperlink" Target="http://travelel.ru/nalchik-dlya-turistov" TargetMode="External"/><Relationship Id="rId15" Type="http://schemas.openxmlformats.org/officeDocument/2006/relationships/hyperlink" Target="http://travelel.ru/karta-kalmykii" TargetMode="External"/><Relationship Id="rId16" Type="http://schemas.openxmlformats.org/officeDocument/2006/relationships/hyperlink" Target="http://travelel.ru/elista-dlya-turista" TargetMode="External"/><Relationship Id="rId17" Type="http://schemas.openxmlformats.org/officeDocument/2006/relationships/hyperlink" Target="http://travelel.ru/karachaevo-cherkessiya-dlya-turista" TargetMode="External"/><Relationship Id="rId18" Type="http://schemas.openxmlformats.org/officeDocument/2006/relationships/hyperlink" Target="http://travelel.ru/cherkessk-dlya-turista" TargetMode="External"/><Relationship Id="rId19" Type="http://schemas.openxmlformats.org/officeDocument/2006/relationships/hyperlink" Target="http://travelel.ru/kareliya-dlya-turista" TargetMode="External"/><Relationship Id="rId20" Type="http://schemas.openxmlformats.org/officeDocument/2006/relationships/hyperlink" Target="http://travelel.ru/turizm-v-petrozavodske" TargetMode="External"/><Relationship Id="rId21" Type="http://schemas.openxmlformats.org/officeDocument/2006/relationships/hyperlink" Target="http://travelel.ru/karta-respubliki-komi" TargetMode="External"/><Relationship Id="rId22" Type="http://schemas.openxmlformats.org/officeDocument/2006/relationships/hyperlink" Target="http://travelel.ru/syktyvkar-na-karte-rossii-s-ulicami-i-domami-so-sputnika" TargetMode="External"/><Relationship Id="rId23" Type="http://schemas.openxmlformats.org/officeDocument/2006/relationships/hyperlink" Target="http://travelel.ru/karta-marij-el" TargetMode="External"/><Relationship Id="rId24" Type="http://schemas.openxmlformats.org/officeDocument/2006/relationships/hyperlink" Target="http://travelel.ru/joshkar-ola-dlya-turista" TargetMode="External"/><Relationship Id="rId25" Type="http://schemas.openxmlformats.org/officeDocument/2006/relationships/hyperlink" Target="http://travelel.ru/otdyx-v-mordovii" TargetMode="External"/><Relationship Id="rId26" Type="http://schemas.openxmlformats.org/officeDocument/2006/relationships/hyperlink" Target="http://travelel.ru/karta-saranska" TargetMode="External"/><Relationship Id="rId27" Type="http://schemas.openxmlformats.org/officeDocument/2006/relationships/hyperlink" Target="http://travelel.ru/yakutiya-dlya-turista" TargetMode="External"/><Relationship Id="rId28" Type="http://schemas.openxmlformats.org/officeDocument/2006/relationships/hyperlink" Target="http://travelel.ru/yakutsk-dlya-turista" TargetMode="External"/><Relationship Id="rId29" Type="http://schemas.openxmlformats.org/officeDocument/2006/relationships/hyperlink" Target="http://travelel.ru/karta-severnoj-osetii-i-polycom-hdx-4000" TargetMode="External"/><Relationship Id="rId30" Type="http://schemas.openxmlformats.org/officeDocument/2006/relationships/hyperlink" Target="http://travelel.ru/karta-vladikavkaza" TargetMode="External"/><Relationship Id="rId31" Type="http://schemas.openxmlformats.org/officeDocument/2006/relationships/hyperlink" Target="http://travelel.ru/podrobnaya-karta-respubliki-tatarstan-so-sputnika" TargetMode="External"/><Relationship Id="rId32" Type="http://schemas.openxmlformats.org/officeDocument/2006/relationships/hyperlink" Target="http://travelel.ru/karta-kazani-s-ulicami-i-domami-so-sputnika" TargetMode="External"/><Relationship Id="rId33" Type="http://schemas.openxmlformats.org/officeDocument/2006/relationships/hyperlink" Target="http://travelel.ru/karta-respubliki-tyva-podrobnaya-so-sputnika" TargetMode="External"/><Relationship Id="rId34" Type="http://schemas.openxmlformats.org/officeDocument/2006/relationships/hyperlink" Target="http://travelel.ru/karta-kyzyla-s-ulicami-i-nomerami-domov" TargetMode="External"/><Relationship Id="rId35" Type="http://schemas.openxmlformats.org/officeDocument/2006/relationships/hyperlink" Target="http://travelel.ru/podrobnaya-karta-udmurtii" TargetMode="External"/><Relationship Id="rId36" Type="http://schemas.openxmlformats.org/officeDocument/2006/relationships/hyperlink" Target="http://travelel.ru/karta-izhevska-s-ulicami-i-nomerami-domov" TargetMode="External"/><Relationship Id="rId37" Type="http://schemas.openxmlformats.org/officeDocument/2006/relationships/hyperlink" Target="http://travelel.ru/karta-respubliki-xakasii-podrobnaya-so-sputnika" TargetMode="External"/><Relationship Id="rId38" Type="http://schemas.openxmlformats.org/officeDocument/2006/relationships/hyperlink" Target="http://travelel.ru/karta-abakana-s-ulicami-i-nomerami-domov" TargetMode="External"/><Relationship Id="rId39" Type="http://schemas.openxmlformats.org/officeDocument/2006/relationships/hyperlink" Target="http://travelel.ru/karta-respubliki-chechnya-podrobnaya-so-sputnika" TargetMode="External"/><Relationship Id="rId40" Type="http://schemas.openxmlformats.org/officeDocument/2006/relationships/hyperlink" Target="http://travelel.ru/karta-groznogo-s-ulicami-i-nomerami-domov" TargetMode="External"/><Relationship Id="rId41" Type="http://schemas.openxmlformats.org/officeDocument/2006/relationships/hyperlink" Target="http://travelel.ru/karta-respubliki-chuvashiya-podrobnaya-so-sputnika" TargetMode="External"/><Relationship Id="rId42" Type="http://schemas.openxmlformats.org/officeDocument/2006/relationships/hyperlink" Target="http://travelel.ru/karta-cheboksar-s-ulicami-i-nomerami-domov" TargetMode="External"/><Relationship Id="rId4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ЮДИ МИРА В МИРЕ ЖИТЬ ХОТЯ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НЕКЛАССНОЕ МЕРОПРИЯТИЕ ДЛЯ СТАРШЕКЛАССНИКОВ  В РАМКАХ ДНЯ ТОЛЕРАНТ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зентацию подготовила Аникина И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ЛЕУ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Камчатская обл., численность-70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ОКИ (УЙЛЬТА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Сахалинская обл., численность-350-360, группа, расселение - Камчатская обл., численность-70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ЛГАН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Таймырский (Долгано-Ненецкий) автономный округ, республика Саха (Якутия), Красноярский край, Численность- 6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ОЧ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- Хабаровский край, сахалинская обл., численность-70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ТЕЛЬМЕН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Камчатская и Магаданская обл., Корякский и Чукотский автономный округ, Численность-24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АМ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Мурманская обл., численность-18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РЕЛ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республика Карелия, численность-130929, из них в России 124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ЛЬКУП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Красноярский край, Томская обл., Ямало-ненецкий авт. окр., численность-36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Е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Красноярский край. Эвенкийский автономный округ, численность-11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ДЭГЕЙЦ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Приморский и Хабаровский край, численность-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МИ-ЗЫРЯН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Республика Коми, численность-344 5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ЛЬЧ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расселение - Хабаровский край, численность-32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РЯ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Камчатка и Магаданская обл., корякский и Чукотский автономный окр., численность-92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АНТЫ МАНС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Тюменская обл, ханты-Мансийский и Ямало-Ненецкий автономный окр, Ненецкий автоном. окр,численность-8724, язык- финно-угорская группа уральско- юкагирской семь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УВАНЦ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расселение - Магаданская обл., Чукотский авт. окр.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НАЙЦ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Хабаровский и Приморские края, Сахалинская обл. Численность-1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УКЧ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- Республика Саха (Якутия), численность-151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ГАНАСАН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Красноярский край, Таймырский авт. окр., численность-12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ВЕН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Республика Саха, Якутия, Бурятия, Красноярский, Хабаровский, Приморские Края, Иркутская, Читинская, Амурская, Томская, Тюменская, Сахалинская обл., Эвенкийский и Таймырский (Долгано-Ненецкий) авт. Окр.,численность-301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ГИДАЛЫ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Хабаросвкий край, численность-6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ВЕН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Республика Саха, Якутия и Хабаровский край, Магаданская и Камчатская обл., численность-171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НЦ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 Красноярский край, Архангельская и Мурманская области, Ненецкий, Ямало-Ненецкий, Ханты-Мансийский и Таймырский (Долгано-Ненецкий) автономные округа., численность - 34 665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ЮКАГИР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Республика Саха(Якутия), Магаданская обл, Чукотский автономный округ, численность-1140, язык- юкагирская группа уральско-юкагирской семьи язы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ИВХ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- Хабаровский край, Сахалинская обл.,численность-467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КУ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расселение - Республика Саха (Якутия), численность-3819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источник - полярная энциклопедия школьника «Арктика - мой дом» , 1999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Цыгане - народ, проживающий на нескольких континент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&amp;Vcy;&amp;ocy;&amp;scy;&amp;scy;&amp;tcy;&amp;acy;&amp;ncy;&amp;ocy;&amp;vcy;&amp;lcy;&amp;iecy;&amp;ncy;&amp;ncy;&amp;acy;&amp;yacy; &amp;fcy;&amp;ocy;&amp;tcy;&amp;ocy;&amp;gcy;&amp;rcy;&amp;acy;&amp;fcy;&amp;icy;&amp;yacy;"/>
          <p:cNvPicPr/>
          <p:nvPr/>
        </p:nvPicPr>
        <p:blipFill>
          <a:blip r:embed="rId1"/>
          <a:stretch/>
        </p:blipFill>
        <p:spPr>
          <a:xfrm>
            <a:off x="2362320" y="2514600"/>
            <a:ext cx="4495680" cy="2643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4673520"/>
            <a:ext cx="3124080" cy="2087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&amp;TScy;&amp;ycy;&amp;gcy;&amp;acy;&amp;ncy;&amp;scy;&amp;kcy;&amp;icy;&amp;jcy; &amp;acy;&amp;ncy;&amp;scy;&amp;acy;&amp;mcy;&amp;bcy;&amp;lcy;&amp;softcy; &amp;Scy;&amp;vcy;&amp;ecy;&amp;ncy;&amp;kcy;&amp;ocy; (&amp;Pcy;&amp;rcy;&amp;acy;&amp;zcy;&amp;dcy;&amp;ncy;&amp;icy;&amp;kcy;), &amp;Mcy;&amp;ocy;&amp;scy;&amp;kcy;&amp;vcy;&amp;acy;"/>
          <p:cNvPicPr/>
          <p:nvPr/>
        </p:nvPicPr>
        <p:blipFill>
          <a:blip r:embed="rId3"/>
          <a:stretch/>
        </p:blipFill>
        <p:spPr>
          <a:xfrm>
            <a:off x="6210360" y="1295280"/>
            <a:ext cx="2933640" cy="2044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&amp;TScy;&amp;ycy;&amp;gcy;&amp;acy;&amp;ncy;&amp;scy;&amp;kcy;&amp;icy;&amp;jcy; &amp;acy;&amp;ncy;&amp;scy;&amp;acy;&amp;mcy;&amp;bcy;&amp;lcy;&amp;softcy; &amp;Scy;&amp;vcy;&amp;ecy;&amp;ncy;&amp;kcy;&amp;ocy; (&amp;Pcy;&amp;rcy;&amp;acy;&amp;zcy;&amp;dcy;&amp;ncy;&amp;icy;&amp;kcy;), &amp;Mcy;&amp;ocy;&amp;scy;&amp;kcy;&amp;vcy;&amp;acy;. &amp;Vcy;&amp;icy;&amp;dcy;&amp;iecy;&amp;ocy; &amp;kcy;&amp;lcy;&amp;icy;&amp;pcy;&amp;ycy;. &amp;TScy;&amp;ycy;&amp;gcy;&amp;acy;&amp;ncy;&amp;scy;&amp;kcy;&amp;icy;&amp;jcy; &amp;tcy;&amp;acy;&amp;bcy;&amp;ocy;&amp;rcy;."/>
          <p:cNvPicPr/>
          <p:nvPr/>
        </p:nvPicPr>
        <p:blipFill>
          <a:blip r:embed="rId4"/>
          <a:stretch/>
        </p:blipFill>
        <p:spPr>
          <a:xfrm>
            <a:off x="5905440" y="4524480"/>
            <a:ext cx="3238560" cy="2333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&amp;TScy;&amp;ycy;&amp;gcy;&amp;acy;&amp;ncy;&amp;scy;&amp;kcy;&amp;icy;&amp;jcy; &amp;acy;&amp;ncy;&amp;scy;&amp;acy;&amp;mcy;&amp;bcy;&amp;lcy;&amp;softcy; &amp;Scy;&amp;vcy;&amp;ecy;&amp;ncy;&amp;kcy;&amp;ocy; (&amp;Pcy;&amp;rcy;&amp;acy;&amp;zcy;&amp;dcy;&amp;ncy;&amp;icy;&amp;kcy;), &amp;Mcy;&amp;ocy;&amp;scy;&amp;kcy;&amp;vcy;&amp;acy;. &amp;Pcy;&amp;acy;&amp;tcy;&amp;rcy;&amp;icy;&amp;ncy;&amp;acy; &amp;SHcy;&amp;acy;&amp;rcy;&amp;kcy;&amp;ocy;&amp;zcy;&amp;icy;, &amp;Lcy;&amp;yacy;&amp;lcy;&amp;yacy; &amp;Mcy;&amp;ocy;&amp;lcy;&amp;dcy;&amp;acy;&amp;vcy;&amp;scy;&amp;kcy;&amp;acy;&amp;yacy;, &amp;Lcy;&amp;iecy;&amp;rcy;&amp;acy; (&amp;Vcy;&amp;acy;&amp;lcy;&amp;iecy;&amp;rcy;&amp;icy;&amp;yacy;) &amp;YAcy;&amp;ncy;&amp;ycy;&amp;shcy;&amp;iecy;&amp;vcy;&amp;acy;, &amp;Pcy;&amp;iocy;&amp;tcy;&amp;rcy; &amp;YAcy;&amp;ncy;&amp;ycy;&amp;shcy;&amp;iecy;&amp;vcy;."/>
          <p:cNvPicPr/>
          <p:nvPr/>
        </p:nvPicPr>
        <p:blipFill>
          <a:blip r:embed="rId5"/>
          <a:stretch/>
        </p:blipFill>
        <p:spPr>
          <a:xfrm>
            <a:off x="0" y="1295280"/>
            <a:ext cx="251460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91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вре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1582560" cy="2743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162920" y="1143000"/>
            <a:ext cx="1787400" cy="2638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419720" y="4276800"/>
            <a:ext cx="4190760" cy="2581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209680" y="914400"/>
            <a:ext cx="4762800" cy="3181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609480" y="4232160"/>
            <a:ext cx="365760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роды Кавказа - азербайджане, армяне, абхазцы, грузины, лезгины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7180200" y="1447920"/>
            <a:ext cx="1963800" cy="3114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&amp;Icy;&amp;zcy;&amp;ocy;&amp;bcy;&amp;rcy;&amp;acy;&amp;zhcy;&amp;iecy;&amp;ncy;&amp;icy;&amp;iecy;"/>
          <p:cNvPicPr/>
          <p:nvPr/>
        </p:nvPicPr>
        <p:blipFill>
          <a:blip r:embed="rId2"/>
          <a:stretch/>
        </p:blipFill>
        <p:spPr>
          <a:xfrm>
            <a:off x="2286000" y="156204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&amp;Icy;&amp;zcy;&amp;ocy;&amp;bcy;&amp;rcy;&amp;acy;&amp;zhcy;&amp;iecy;&amp;ncy;&amp;icy;&amp;iecy;"/>
          <p:cNvPicPr/>
          <p:nvPr/>
        </p:nvPicPr>
        <p:blipFill>
          <a:blip r:embed="rId3"/>
          <a:stretch/>
        </p:blipFill>
        <p:spPr>
          <a:xfrm>
            <a:off x="5410080" y="4648320"/>
            <a:ext cx="3353040" cy="2239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&amp;Icy;&amp;zcy;&amp;ocy;&amp;bcy;&amp;rcy;&amp;acy;&amp;zhcy;&amp;iecy;&amp;ncy;&amp;icy;&amp;iecy;"/>
          <p:cNvPicPr/>
          <p:nvPr/>
        </p:nvPicPr>
        <p:blipFill>
          <a:blip r:embed="rId4"/>
          <a:stretch/>
        </p:blipFill>
        <p:spPr>
          <a:xfrm>
            <a:off x="5715000" y="2209680"/>
            <a:ext cx="1368360" cy="2057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&amp;Icy;&amp;zcy;&amp;ocy;&amp;bcy;&amp;rcy;&amp;acy;&amp;zhcy;&amp;iecy;&amp;ncy;&amp;icy;&amp;iecy;"/>
          <p:cNvPicPr/>
          <p:nvPr/>
        </p:nvPicPr>
        <p:blipFill>
          <a:blip r:embed="rId5"/>
          <a:stretch/>
        </p:blipFill>
        <p:spPr>
          <a:xfrm>
            <a:off x="2590920" y="4191120"/>
            <a:ext cx="2895480" cy="2474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&amp;Acy;&amp;zcy;&amp;iecy;&amp;rcy;&amp;bcy;&amp;acy;&amp;jcy;&amp;dcy;&amp;zhcy;&amp;acy;&amp;ncy;"/>
          <p:cNvPicPr/>
          <p:nvPr/>
        </p:nvPicPr>
        <p:blipFill>
          <a:blip r:embed="rId6"/>
          <a:stretch/>
        </p:blipFill>
        <p:spPr>
          <a:xfrm>
            <a:off x="152280" y="1828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&amp;Acy;&amp;bcy;&amp;khcy;&amp;acy;&amp;zcy;&amp;icy;&amp;yacy;"/>
          <p:cNvPicPr/>
          <p:nvPr/>
        </p:nvPicPr>
        <p:blipFill>
          <a:blip r:embed="rId7"/>
          <a:stretch/>
        </p:blipFill>
        <p:spPr>
          <a:xfrm>
            <a:off x="152280" y="4114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усская красав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44197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ажною «павой», «душой голубицей»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Издавна так называли девицу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Девичьи руки в труде и заботе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 ранней поры привыкали к работе: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Ткали и пряли, вязали и шили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еяли, жали и тесто месили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 трудной работе сгибалась спина..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Но выходила на праздник она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 дивном наряде крестьянской одежды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Где весь узор о мечте и надежде: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расным расшиты запон и рубаха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(Черное — скорбь, что на родине свято)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имволы солнца и знаки земли.</a:t>
            </a:r>
            <a:br>
              <a:rPr sz="1600"/>
            </a:br>
            <a:br>
              <a:rPr sz="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29200" y="1066680"/>
            <a:ext cx="4114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 подолу, как на вспаханном поле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Ромбы узорной легли полосою;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Матери-жизни и птицы любви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Шею украсили бусы, мониста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Бисер, кораллы, янтарь золотистый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сех драгоценней убор головной –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Жемчугом шитый и битью златой: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ика, сорока — убор молодицы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осник, венец — украшенье девицы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борник, повойник — убор для старухи..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амый красивый — убор молодухи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Так испокон сохранен на Руси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Женский костюм небывалой красы!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9880" y="1219320"/>
            <a:ext cx="152244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усские национальные костю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«Я, ты, он, она – вместе дружная страна, вместе дружная семья…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&amp;lcy;&amp;ucy;&amp;chcy;&amp;shcy;&amp;icy;&amp;iecy; &amp;dcy;&amp;rcy;&amp;ucy;&amp;zcy;&amp;softcy;&amp;yacy;"/>
          <p:cNvPicPr/>
          <p:nvPr/>
        </p:nvPicPr>
        <p:blipFill>
          <a:blip r:embed="rId1"/>
          <a:stretch/>
        </p:blipFill>
        <p:spPr>
          <a:xfrm>
            <a:off x="0" y="1219320"/>
            <a:ext cx="2819520" cy="2333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&amp;kcy;&amp;acy;&amp;rcy;&amp;tcy;&amp;icy;&amp;ncy;&amp;kcy;&amp;acy; &amp;scy; &amp;ncy;&amp;acy;&amp;dcy;&amp;pcy;&amp;icy;&amp;scy;&amp;softcy;&amp;yucy;"/>
          <p:cNvPicPr/>
          <p:nvPr/>
        </p:nvPicPr>
        <p:blipFill>
          <a:blip r:embed="rId2"/>
          <a:stretch/>
        </p:blipFill>
        <p:spPr>
          <a:xfrm>
            <a:off x="6019920" y="1219320"/>
            <a:ext cx="3124080" cy="2420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http://www.wallon.ru/_ph/53/694113576.jpg"/>
          <p:cNvPicPr/>
          <p:nvPr/>
        </p:nvPicPr>
        <p:blipFill>
          <a:blip r:embed="rId3"/>
          <a:stretch/>
        </p:blipFill>
        <p:spPr>
          <a:xfrm>
            <a:off x="3048120" y="15238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057400" y="3581280"/>
            <a:ext cx="499104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Ребята, давайте жить дружно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4257720" cy="4167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V="1" rot="10800000">
            <a:off x="7560" y="5638320"/>
            <a:ext cx="890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Благодарю за внимани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тернет-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ravelel.ru/respubliki-rossii-karty-respublik-otdyx-turiz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oisk-druga.ru/breeds/poroda-d/238-dalmati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photo-sever.ru/2/9/illyustratsii-narodi-kraynego-severa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vorkutainfo.ru/jit_severa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photo-sever.ru/2/9/kak-givut-narodi-severa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akvis.com/ru/retoucher-tutorial/examples/gipsy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ru.wikipedia.org/wiki/%D0%9A%D1%83%D0%BB%D1%8C%D1%82%D1%83%D1%80%D0%B0_%D1%86%D1%8B%D0%B3%D0%B0%D0%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svenko.net/index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lechaim.ru/ARHIV/118/fede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ru.wikipedia.org/wiki/%D0%91%D1%83%D1%85%D0%B0%D1%80%D1%81%D0%BA%D0%B8%D0%B5_%D0%B5%D0%B2%D1%80%D0%B5%D0%B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poligonkavkaz.info/topic/6357-nacionalnie-kostjum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foto.mail.ru/community/qizdar/112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senart-artdeco.livejournal.com/71737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liveinternet.ru/tags/%F0%F3%F1%F1%EA%E8%E9+%ED%E0%F0%EE%E4%ED%FB%E9+%EA%EE%F1%F2%FE%EC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lt;a href="http://blestki.com/kartinki_drujba.html" target="_blank"&gt;&lt;img src="http://blestki.com/drug/kartinki-druzjam-s-nadpisjami.gif" border="0"&gt;&lt;/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lt;a href="http://blestki.com/kartinki_drujba.html" target="_blank"&gt;&lt;img src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blestki.com/drug/druzjam.g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wallon.ru/photo/raznoe/druzhba_narodov/53-0-310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vk.com/photo-20079136_1863840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masha-i-medved.net/kot-leopold-kartinki-iz-multika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99172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6 ноября – Международный день терпимости (толерантности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49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Цель провед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ирование толерантного отношения к людям разных национальностей, воспитание уважительного отношения к культуре разных народов, разрушение стереотипов в отношении какой- либо нации, что является очень важным в нашей многонациональной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рта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&amp;Bcy;&amp;rcy;&amp;ocy;&amp;dcy;&amp;yacy;&amp;gcy;&amp;icy; &amp;scy;&amp;iecy;&amp;vcy;&amp;iecy;&amp;rcy;&amp;acy; &amp;scy;&amp;kcy;&amp;acy;&amp;chcy;&amp;acy;&amp;tcy;&amp;softcy;.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рта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0"/>
            <a:ext cx="9448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http://travelel.ru/wp-content/uploads/2011/09/respubliki-rossii.jpg"/>
          <p:cNvPicPr/>
          <p:nvPr/>
        </p:nvPicPr>
        <p:blipFill>
          <a:blip r:embed="rId1"/>
          <a:stretch/>
        </p:blipFill>
        <p:spPr>
          <a:xfrm>
            <a:off x="0" y="914400"/>
            <a:ext cx="91630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убъекты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Республика Адыге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Адыгея)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Майко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Республика Алта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Горно-Алтай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Республика Башкортоста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Уф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Республика Бурят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Улан-Удэ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Республика Дагеста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Махачкал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Республика Ингушет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Мага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Кабардино-Балкарская Республ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Нальчи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Республика Калмык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Элис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7"/>
              </a:rPr>
              <a:t>Карачаево-Черкесская Республ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8"/>
              </a:rPr>
              <a:t>Черкес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9"/>
              </a:rPr>
              <a:t>Республика Карел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0"/>
              </a:rPr>
              <a:t>Петрозавод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1"/>
              </a:rPr>
              <a:t>Республика Ко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2"/>
              </a:rPr>
              <a:t>Сыктывка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2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3"/>
              </a:rPr>
              <a:t>Республика Марий Э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4"/>
              </a:rPr>
              <a:t>Йошкар-Ол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3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5"/>
              </a:rPr>
              <a:t>Республика Мордов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6"/>
              </a:rPr>
              <a:t>Саран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4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7"/>
              </a:rPr>
              <a:t>Республика Сах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Якутия)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8"/>
              </a:rPr>
              <a:t>Якут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5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9"/>
              </a:rPr>
              <a:t>Республика Северная Осет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— Алания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0"/>
              </a:rPr>
              <a:t>Владикавка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1"/>
              </a:rPr>
              <a:t>Республика Татарста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Татарстан)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2"/>
              </a:rPr>
              <a:t>Казан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7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3"/>
              </a:rPr>
              <a:t>Республика Ты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4"/>
              </a:rPr>
              <a:t>Кызы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8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5"/>
              </a:rPr>
              <a:t>Удмуртская Республ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6"/>
              </a:rPr>
              <a:t>Ижев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7"/>
              </a:rPr>
              <a:t>Республика Хакас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8"/>
              </a:rPr>
              <a:t>Абака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0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9"/>
              </a:rPr>
              <a:t>Чеченская Республ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40"/>
              </a:rPr>
              <a:t>Грозны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1. Чувашская Республика —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41"/>
              </a:rPr>
              <a:t>Чуваш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42"/>
              </a:rPr>
              <a:t>Чебоксар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 ноября - Международный день толерант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лерантность- это терпимое отношение к людям, отличающимся о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лерантность- это умение понять и принять другого человека, отличающегося от нас цветом кожи,  разрезом глаз, образом жизни, традициями, говорящего на другом языке, других убеждений, рели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баки бывают разные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й-терьер, сенбернар, немецкая овчарка, пинчер немецкий, бельгийский гриффон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&amp;Tcy;&amp;ocy;&amp;jcy;-&amp;tcy;&amp;iecy;&amp;rcy;&amp;softcy;&amp;iecy;&amp;rcy; (&amp;Acy;&amp;ncy;&amp;gcy;&amp;lcy;&amp;icy;&amp;jcy;&amp;scy;&amp;kcy;&amp;icy;&amp;jcy;)"/>
          <p:cNvPicPr/>
          <p:nvPr/>
        </p:nvPicPr>
        <p:blipFill>
          <a:blip r:embed="rId1"/>
          <a:stretch/>
        </p:blipFill>
        <p:spPr>
          <a:xfrm>
            <a:off x="380880" y="1959120"/>
            <a:ext cx="2590920" cy="2219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&amp;Scy;&amp;iecy;&amp;ncy;&amp;bcy;&amp;iecy;&amp;rcy;&amp;ncy;&amp;acy;&amp;rcy;"/>
          <p:cNvPicPr/>
          <p:nvPr/>
        </p:nvPicPr>
        <p:blipFill>
          <a:blip r:embed="rId2"/>
          <a:stretch/>
        </p:blipFill>
        <p:spPr>
          <a:xfrm>
            <a:off x="3124080" y="2057400"/>
            <a:ext cx="2895840" cy="2055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&amp;Ncy;&amp;iecy;&amp;mcy;&amp;iecy;&amp;tscy;&amp;kcy;&amp;acy;&amp;yacy; &amp;ocy;&amp;vcy;&amp;chcy;&amp;acy;&amp;rcy;&amp;kcy;&amp;acy; &amp;dcy;&amp;lcy;&amp;icy;&amp;ncy;&amp;ncy;&amp;ocy;&amp;shcy;&amp;iecy;&amp;rcy;&amp;scy;&amp;tcy;&amp;ncy;&amp;acy;&amp;yacy;"/>
          <p:cNvPicPr/>
          <p:nvPr/>
        </p:nvPicPr>
        <p:blipFill>
          <a:blip r:embed="rId3"/>
          <a:stretch/>
        </p:blipFill>
        <p:spPr>
          <a:xfrm>
            <a:off x="6172200" y="1978200"/>
            <a:ext cx="2666880" cy="2158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&amp;Pcy;&amp;icy;&amp;ncy;&amp;chcy;&amp;iecy;&amp;rcy; &amp;ncy;&amp;iecy;&amp;mcy;&amp;iecy;&amp;tscy;&amp;kcy;&amp;icy;&amp;jcy;"/>
          <p:cNvPicPr/>
          <p:nvPr/>
        </p:nvPicPr>
        <p:blipFill>
          <a:blip r:embed="rId4"/>
          <a:stretch/>
        </p:blipFill>
        <p:spPr>
          <a:xfrm>
            <a:off x="0" y="4343400"/>
            <a:ext cx="285768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&amp;Bcy;&amp;iecy;&amp;lcy;&amp;softcy;&amp;gcy;&amp;icy;&amp;jcy;&amp;scy;&amp;kcy;&amp;icy;&amp;jcy; &amp;gcy;&amp;rcy;&amp;icy;&amp;fcy;&amp;fcy;&amp;ocy;&amp;ncy;"/>
          <p:cNvPicPr/>
          <p:nvPr/>
        </p:nvPicPr>
        <p:blipFill>
          <a:blip r:embed="rId5"/>
          <a:stretch/>
        </p:blipFill>
        <p:spPr>
          <a:xfrm>
            <a:off x="6286680" y="4343400"/>
            <a:ext cx="2857320" cy="2352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&amp;Dcy;&amp;acy;&amp;lcy;&amp;mcy;&amp;acy;&amp;tcy;&amp;icy;&amp;ncy;"/>
          <p:cNvPicPr/>
          <p:nvPr/>
        </p:nvPicPr>
        <p:blipFill>
          <a:blip r:embed="rId6"/>
          <a:stretch/>
        </p:blipFill>
        <p:spPr>
          <a:xfrm>
            <a:off x="3200400" y="4324320"/>
            <a:ext cx="28576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роды Крайнего Север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&amp;Mcy;&amp;iecy;&amp;rcy;&amp;icy;&amp;dcy;&amp;icy;&amp;acy;&amp;ncy; &amp;scy;&amp;iecy;&amp;vcy;&amp;iecy;&amp;rcy;."/>
          <p:cNvPicPr/>
          <p:nvPr/>
        </p:nvPicPr>
        <p:blipFill>
          <a:blip r:embed="rId1"/>
          <a:stretch/>
        </p:blipFill>
        <p:spPr>
          <a:xfrm>
            <a:off x="6629400" y="3657600"/>
            <a:ext cx="1981080" cy="2971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&amp;Ncy;&amp;acy;&amp;rcy;&amp;ocy;&amp;dcy;&amp;ycy; &amp;scy;&amp;iecy;&amp;vcy;&amp;iecy;&amp;rcy;&amp;acy; &amp;ncy;&amp;iecy;&amp;ncy;&amp;tscy;&amp;ycy;."/>
          <p:cNvPicPr/>
          <p:nvPr/>
        </p:nvPicPr>
        <p:blipFill>
          <a:blip r:embed="rId2"/>
          <a:stretch/>
        </p:blipFill>
        <p:spPr>
          <a:xfrm>
            <a:off x="5791320" y="1143000"/>
            <a:ext cx="3352680" cy="2211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&amp;Kcy;&amp;acy;&amp;kcy; &amp;zhcy;&amp;icy;&amp;vcy;&amp;ucy;&amp;tcy; &amp;ncy;&amp;acy;&amp;rcy;&amp;ocy;&amp;dcy;&amp;ycy; &amp;scy;&amp;iecy;&amp;vcy;&amp;iecy;&amp;rcy;&amp;acy;."/>
          <p:cNvPicPr/>
          <p:nvPr/>
        </p:nvPicPr>
        <p:blipFill>
          <a:blip r:embed="rId3"/>
          <a:stretch/>
        </p:blipFill>
        <p:spPr>
          <a:xfrm>
            <a:off x="2895480" y="4419720"/>
            <a:ext cx="3200400" cy="2271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&amp;Scy;&amp;mcy;&amp;ocy;&amp;tcy;&amp;rcy;&amp;iecy;&amp;tcy;&amp;softcy; &amp;kcy;&amp;iecy;&amp;vcy;&amp;icy;&amp;ncy; &amp;scy; &amp;scy;&amp;iecy;&amp;vcy;&amp;iecy;&amp;rcy;&amp;acy;."/>
          <p:cNvPicPr/>
          <p:nvPr/>
        </p:nvPicPr>
        <p:blipFill>
          <a:blip r:embed="rId4"/>
          <a:stretch/>
        </p:blipFill>
        <p:spPr>
          <a:xfrm>
            <a:off x="0" y="1066680"/>
            <a:ext cx="3276720" cy="2184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&amp;Acy;&amp;rcy;&amp;kcy;&amp;acy;&amp;dcy;&amp;acy; &amp;scy;&amp;iecy;&amp;vcy;&amp;iecy;&amp;rcy;."/>
          <p:cNvPicPr/>
          <p:nvPr/>
        </p:nvPicPr>
        <p:blipFill>
          <a:blip r:embed="rId5"/>
          <a:stretch/>
        </p:blipFill>
        <p:spPr>
          <a:xfrm>
            <a:off x="2895480" y="2133720"/>
            <a:ext cx="3276720" cy="2179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&amp;Kcy;&amp;lcy;&amp;icy;&amp;pcy;&amp;ycy; &amp;dcy;&amp;ocy;&amp;rcy;&amp;ocy;&amp;gcy;&amp;icy; &amp;scy;&amp;iecy;&amp;vcy;&amp;iecy;&amp;rcy;&amp;acy;."/>
          <p:cNvPicPr/>
          <p:nvPr/>
        </p:nvPicPr>
        <p:blipFill>
          <a:blip r:embed="rId6"/>
          <a:stretch/>
        </p:blipFill>
        <p:spPr>
          <a:xfrm>
            <a:off x="457200" y="3505320"/>
            <a:ext cx="202572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30T02:54:5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